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B87-0CFE-4A3E-80F7-840C8430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C51-4035-42B1-8AF3-C1D18A99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466-FA9F-477B-8716-6E343D7A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6D9-1EC7-44C5-BE48-5981EAC6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A1B-AFBA-4367-93E7-E1A86DD6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1A45-4874-422C-80F9-36D7D9AD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A5D-DB9C-4261-BC69-CC8129D7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DCB-3AE2-409A-AC77-E170E219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F3E-ED4C-4085-8A8A-770A8786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546-0731-445A-AE64-329C067C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4B5-1F07-407D-BF2B-8DAD2D42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856-CB50-4E21-9A43-D22ABED6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A916-2AB4-4A79-A2C5-8F56DDC5E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Slave Trade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4479840" cy="5029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9641" t="31143" r="23404" b="30127"/>
          <a:stretch/>
        </p:blipFill>
        <p:spPr>
          <a:xfrm>
            <a:off x="4724280" y="2209680"/>
            <a:ext cx="4267440" cy="37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s aboard Slave Ship during “Middle Pass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from disease, malnutrition, mistreatment or lack of fresh 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s who protested their enslavement by refusing to eat were forcibly f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, slaves were whipped to discourage protests of any k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ried to escape by jumping over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 Treat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aptains separated the men from the women and kept them below decks for entire voyage to fight against rebe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ied from being below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s aboard Slave Ship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 Trea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were left above deck because the crews weren’t afraid of rebe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n’t have to deal as much with disease but r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ships attracted a steady escort of sharks because the dead people were tossed over the side each mo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World” Slavery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 trade to the west lasted from about 1502 to the 186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laves were brought by the Spanish and taken to the West Indies in 15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18th Century, the African continent was supplying great wealth and power to Europe’s newly emerging American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number of Africans brought to the Americas was about 15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 were enslaved in the West Indies by the Spanish, French, Dutch, Danish, Swedish and 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% were taken to Brazil by the Portugu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6% of Africans enslaved were brought to the North American colonies of the British… futur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3930" t="9873" r="10639" b="37721"/>
          <a:stretch/>
        </p:blipFill>
        <p:spPr>
          <a:xfrm>
            <a:off x="228600" y="-31680"/>
            <a:ext cx="86868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19641" t="31143" r="23404" b="30127"/>
          <a:stretch/>
        </p:blipFill>
        <p:spPr>
          <a:xfrm>
            <a:off x="6400800" y="0"/>
            <a:ext cx="2743200" cy="241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av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 was used in North Africa before the European nations became involved in the slav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held in bondage were generally taken during a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av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arms and horses were used to entice African leaders to trade with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av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ribes, like the Ashante, charged taxes to Europeans for the right to trade in their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Overview of Slave Cap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ere taken from villages to neighboring states and were sold to a chief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would trade slaves for goods with the Europeans (usually gu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the first time many Africans came into contact with different ethnic and linguistic groups fro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y had been traded, the Africans had to board large ships for their voyage to the “New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18657" t="30382" r="22035" b="30382"/>
          <a:stretch/>
        </p:blipFill>
        <p:spPr>
          <a:xfrm>
            <a:off x="380880" y="0"/>
            <a:ext cx="8001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20:53:37Z</dcterms:created>
  <dc:creator>Deb Pousson</dc:creator>
  <dc:description/>
  <dc:language>en-US</dc:language>
  <cp:lastModifiedBy>Deb Pousson</cp:lastModifiedBy>
  <dcterms:modified xsi:type="dcterms:W3CDTF">2009-11-04T03:59:15Z</dcterms:modified>
  <cp:revision>3</cp:revision>
  <dc:subject/>
  <dc:title>Slave Trade-Key Concepts</dc:title>
</cp:coreProperties>
</file>