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3C41-2EA6-42AB-BB8F-54057532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DB8-991B-416C-A5F6-9037D78B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787-8D64-4FEC-8981-0ACACDEA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2D8-B3AA-47F1-870E-BFF1C957F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E9F9E-114A-4754-BD3C-1648A4A70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6F95-69C6-4B7C-BF54-6A2D56EB9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67E6-4C83-4822-8AB5-4C25BC367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AEF9-0261-4B7A-8F35-627A9EF3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79D8-A3C0-4C40-8092-E91348AED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E925-D41B-422C-BBBE-8D480A79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522A-AE38-4224-AD77-A683BCE3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2677-7289-41AE-AF70-8BCB6DB6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4FEC3-D253-42F4-BD82-02506FD58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Slave Trade</a:t>
            </a:r>
            <a:br>
              <a:rPr sz="5400"/>
            </a:b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Key Concept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1752480"/>
            <a:ext cx="4479840" cy="50292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4724280" y="2209680"/>
            <a:ext cx="4267440" cy="375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1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 during “Middle Passage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ath from disease, malnutrition, mistreatment or lack of fresh a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ricans who protested their enslavement by refusing to eat were forcibly f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ten, slaves were whipped to discourage protests of any k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ried to escape by jumping over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e Treatm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aptains separated the men from the women and kept them below decks for entire voyage to fight against rebe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ied from being below d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tions aboard Slave Shi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male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men were left above deck because the crews weren’t afraid of rebe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dn’t have to deal as much with disease but r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 ships attracted a steady escort of sharks because the dead people were tossed over the side each morn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World” Slavery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ave trade to the west lasted from about 1502 to the 1860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irst slaves were brought by the Spanish and taken to the West Indies in 15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the 18th Century, the African continent was supplying great wealth and power to Europe’s newly emerging American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otal number of Africans brought to the Americas was about 15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0% were enslaved in the West Indies by the Spanish, French, Dutch, Danish, Swedish and Engl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0% were taken to Brazil by the Portugu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6% of Africans enslaved were brought to the North American colonies of the British… future 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930" t="9873" r="10639" b="37721"/>
          <a:stretch/>
        </p:blipFill>
        <p:spPr>
          <a:xfrm>
            <a:off x="228600" y="-31680"/>
            <a:ext cx="868680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86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19641" t="31143" r="23404" b="30127"/>
          <a:stretch/>
        </p:blipFill>
        <p:spPr>
          <a:xfrm>
            <a:off x="6400800" y="0"/>
            <a:ext cx="2743200" cy="2411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avery was used in North Africa before the European nations became involved in the slave tr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held in bondage were generally taken during a 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earms and horses were used to entice African leaders to trade with Europ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lav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tribes, like the Ashante, charged taxes to Europeans for the right to trade in their reg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asic Overview of Slave Cap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ere taken from villages to neighboring states and were sold to a chieft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would trade slaves for goods with the Europeans (usually gun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was the first time many Africans came into contact with different ethnic and linguistic groups from Afr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ey had been traded, the Africans had to board large ships for their voyage to the “New World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18657" t="30382" r="22035" b="30382"/>
          <a:stretch/>
        </p:blipFill>
        <p:spPr>
          <a:xfrm>
            <a:off x="380880" y="0"/>
            <a:ext cx="8001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5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20:53:37Z</dcterms:created>
  <dc:creator>Deb Pousson</dc:creator>
  <dc:description/>
  <dc:language>en-US</dc:language>
  <cp:lastModifiedBy>Deb Pousson</cp:lastModifiedBy>
  <dcterms:modified xsi:type="dcterms:W3CDTF">2009-11-04T03:59:15Z</dcterms:modified>
  <cp:revision>3</cp:revision>
  <dc:subject/>
  <dc:title>Slave Trade-Key Concepts</dc:title>
</cp:coreProperties>
</file>