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625-8E98-4217-9DD1-AA364AAD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534-C0AD-4636-8EB6-523936A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C55-68C6-4B27-AC44-124B753A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E23-0A1A-4E17-8659-FF497623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C01-AAE4-40FA-BD9C-33C0E412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C13-843E-4326-9F72-1C77263A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97C-F61E-4697-8863-8AAEE78E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C47-07FC-4938-A73C-E7A2138A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17A-BBF7-4844-9B04-79AF085F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E3A-7CF0-4684-BB3F-13503459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A6A-768F-4BA8-B3F5-2C690643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D37-2EDC-445B-AC83-0E29AB8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5239-9156-4B29-B9C3-BEA8E935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lave Trade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479840" cy="502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4724280" y="2209680"/>
            <a:ext cx="426744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 during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, malnutrition, mistreatment or lack of fresh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ho protested their enslavement by refusing to eat were forcibly f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slaves were whipped to discourage protests of any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ied to escape by jumping ov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Trea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aptains separated the men from the women and kept them below decks for entire voyage to fight against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ed from being below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ere left above deck because the crews weren’t afraid of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have to deal as much with disease but r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hips attracted a steady escort of sharks because the dead people were tossed over the side each mo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World” Slavery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trade to the west lasted from about 1502 to the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laves were brought by the Spanish and taken to the West Indies in 15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8th Century, the African continent was supplying great wealth and power to Europe’s newly emerging American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number of Africans brought to the Americas was about 1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were enslaved in the West Indies by the Spanish, French, Dutch, Danish, Swedish and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were taken to Brazil by the 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6% of Africans enslaved were brought to the North American colonies of the British… futur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930" t="9873" r="10639" b="37721"/>
          <a:stretch/>
        </p:blipFill>
        <p:spPr>
          <a:xfrm>
            <a:off x="228600" y="-31680"/>
            <a:ext cx="86868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6400800" y="0"/>
            <a:ext cx="2743200" cy="24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was used in North Africa before the European nations became involved in the 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held in bondage were generally taken during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 and horses were used to entice African leaders to trade with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ibes, like the Ashante, charged taxes to Europeans for the right to trade in thei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Overview of Slave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ere taken from villages to neighboring states and were sold to a chief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would trade slaves for goods with the Europeans (usually gu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first time many Africans came into contact with different ethnic and linguistic groups fro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y had been traded, the Africans had to board large ships for their voyage to the “New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657" t="30382" r="22035" b="30382"/>
          <a:stretch/>
        </p:blipFill>
        <p:spPr>
          <a:xfrm>
            <a:off x="380880" y="0"/>
            <a:ext cx="8001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0:53:37Z</dcterms:created>
  <dc:creator>Deb Pousson</dc:creator>
  <dc:description/>
  <dc:language>en-US</dc:language>
  <cp:lastModifiedBy>Deb Pousson</cp:lastModifiedBy>
  <dcterms:modified xsi:type="dcterms:W3CDTF">2009-11-04T03:59:15Z</dcterms:modified>
  <cp:revision>3</cp:revision>
  <dc:subject/>
  <dc:title>Slave Trade-Key Concepts</dc:title>
</cp:coreProperties>
</file>